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422-3579-4FF8-A674-FC186F90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E0B-50E6-4CF0-988F-8279C230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234-F96E-459F-AAD1-EA169125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0A1-5A0D-44DA-8D51-2D586D2D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CD1-71AF-46BB-901B-72239B4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2CA-4463-40D0-8467-114AB10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34E-898E-4465-91C2-BAF4426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F59-E8CF-47CF-A6B4-FDAA089E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6FF-0DDB-4471-99B2-DB5F416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02A-4109-4843-9048-81FA95C5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D92-52B8-4AFC-A3F8-74711C03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5F3-8072-44BE-8B0B-A21E598A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6A1C-F22D-4159-8AD6-EC041C70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route21/index.php?option=com_content&amp;view=article&amp;id=40&amp;Itemid=28" TargetMode="External"/><Relationship Id="rId2" Type="http://schemas.openxmlformats.org/officeDocument/2006/relationships/hyperlink" Target="http://www.21stcenturyskills.org/route21/index.php?option=com_content&amp;view=article&amp;id=40&amp;Itemid=28" TargetMode="External"/><Relationship Id="rId3" Type="http://schemas.openxmlformats.org/officeDocument/2006/relationships/hyperlink" Target="http://www.21stcenturyskills.org/route21/index.php?option=com_content&amp;view=article&amp;id=40&amp;Itemid=28" TargetMode="External"/><Relationship Id="rId4" Type="http://schemas.openxmlformats.org/officeDocument/2006/relationships/hyperlink" Target="http://www.21stcenturyskills.org/route21/index.php?option=com_content&amp;view=article&amp;id=40&amp;Itemid=28" TargetMode="External"/><Relationship Id="rId5" Type="http://schemas.openxmlformats.org/officeDocument/2006/relationships/hyperlink" Target="http://www.21stcenturyskills.org/route21/index.php?option=com_content&amp;view=article&amp;id=40&amp;Itemid=28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ly Child Academ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33791"/>
          <a:stretch/>
        </p:blipFill>
        <p:spPr>
          <a:xfrm>
            <a:off x="380880" y="0"/>
            <a:ext cx="7620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e faculty/administration to importance of Web 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nstrate integration of web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 professional develop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ing the s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pple effect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, Blogs, Glogs, Twitter, Googl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ve 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ulty 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Want to 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ulty immersion into Web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emina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ideas for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21stcenturyskills.org/route21/index.php?option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_content&amp;view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ticle&amp;i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40&amp;Itemid=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Based Lear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ve involv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Lesson Plans through 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er Eval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 Eval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ve Eval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3:25:29Z</dcterms:created>
  <dc:creator>mcameron</dc:creator>
  <dc:description/>
  <dc:language>en-US</dc:language>
  <cp:lastModifiedBy>mcameron</cp:lastModifiedBy>
  <dcterms:modified xsi:type="dcterms:W3CDTF">2009-03-05T17:03:56Z</dcterms:modified>
  <cp:revision>3</cp:revision>
  <dc:subject/>
  <dc:title>Holy Child Academy</dc:title>
</cp:coreProperties>
</file>